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A268-1BF7-40D6-BD8D-FEC121A6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C574-274C-47E6-9B65-1DB3209B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2E66-BFFF-476F-8562-D72FA437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7DAB-07F4-448D-B634-6EE63B48C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9B70-C1C5-4CA9-8C9E-D1FD8B1B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440F-FB3A-433E-92B6-0E086A46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7D24-7889-47F4-80C6-F1C23829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4E15-038B-42FC-AA2B-569F7A5C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1812-9B8A-4823-9A7B-7649D8FD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5AC7-E4E7-4292-8AE3-6CB1B282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815E-28EB-408C-ADBD-D4C353E9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C55E-8C06-4651-90B6-1745F401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FBB3-CD04-440C-AC69-DF0144840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ff"/>
                </a:solidFill>
                <a:latin typeface="Comic Sans MS"/>
              </a:rPr>
              <a:t>El babuino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 esta…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707920"/>
            <a:ext cx="64008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triste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4653000"/>
            <a:ext cx="46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a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3333ff"/>
                </a:solidFill>
                <a:latin typeface="Comic Sans MS"/>
              </a:rPr>
              <a:t>El babuino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es…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03280" y="2707920"/>
            <a:ext cx="64008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joven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24000" y="4653000"/>
            <a:ext cx="46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you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3333ff"/>
                </a:solidFill>
                <a:latin typeface="Comic Sans MS"/>
              </a:rPr>
              <a:t>El babuino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es…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403280" y="2707920"/>
            <a:ext cx="64008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guapo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19280" y="4581360"/>
            <a:ext cx="561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good lookin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3333ff"/>
                </a:solidFill>
                <a:latin typeface="Comic Sans MS"/>
              </a:rPr>
              <a:t>El babuino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es…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03280" y="2707920"/>
            <a:ext cx="64008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feo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24000" y="4653000"/>
            <a:ext cx="46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ugl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3333ff"/>
                </a:solidFill>
                <a:latin typeface="Comic Sans MS"/>
              </a:rPr>
              <a:t>El babuino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es…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403280" y="2707920"/>
            <a:ext cx="64008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simpático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24000" y="4653000"/>
            <a:ext cx="46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nic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ff"/>
                </a:solidFill>
                <a:latin typeface="Comic Sans MS"/>
              </a:rPr>
              <a:t>El babuino</a:t>
            </a: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 esta…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2707920"/>
            <a:ext cx="64008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contento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24000" y="4653000"/>
            <a:ext cx="46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happ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3333ff"/>
                </a:solidFill>
                <a:latin typeface="Comic Sans MS"/>
              </a:rPr>
              <a:t>El babuino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es…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03280" y="2707920"/>
            <a:ext cx="64008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delgado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24000" y="4653000"/>
            <a:ext cx="46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th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3333ff"/>
                </a:solidFill>
                <a:latin typeface="Comic Sans MS"/>
              </a:rPr>
              <a:t>El babuino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es…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03280" y="2707920"/>
            <a:ext cx="64008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alto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24000" y="4653000"/>
            <a:ext cx="46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tal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3333ff"/>
                </a:solidFill>
                <a:latin typeface="Comic Sans MS"/>
              </a:rPr>
              <a:t>El babuino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es…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2707920"/>
            <a:ext cx="64008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bajo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24000" y="4653000"/>
            <a:ext cx="46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shor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3333ff"/>
                </a:solidFill>
                <a:latin typeface="Comic Sans MS"/>
              </a:rPr>
              <a:t>El babuino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es…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403280" y="2707920"/>
            <a:ext cx="64008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listo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24000" y="4653000"/>
            <a:ext cx="46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clev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3333ff"/>
                </a:solidFill>
                <a:latin typeface="Comic Sans MS"/>
              </a:rPr>
              <a:t>El babuino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es…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403280" y="2707920"/>
            <a:ext cx="64008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loco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4653000"/>
            <a:ext cx="46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ma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3333ff"/>
                </a:solidFill>
                <a:latin typeface="Comic Sans MS"/>
              </a:rPr>
              <a:t>El babuino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es…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403280" y="2707920"/>
            <a:ext cx="64008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gordo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4653000"/>
            <a:ext cx="46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f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3333ff"/>
                </a:solidFill>
                <a:latin typeface="Comic Sans MS"/>
              </a:rPr>
              <a:t>El babuino</a:t>
            </a: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 es…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403280" y="2707920"/>
            <a:ext cx="64008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viejo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4653000"/>
            <a:ext cx="46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ol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5:30:04Z</dcterms:created>
  <dc:creator>Helen</dc:creator>
  <dc:description/>
  <dc:language>en-US</dc:language>
  <cp:lastModifiedBy>Helen</cp:lastModifiedBy>
  <dcterms:modified xsi:type="dcterms:W3CDTF">2010-04-30T18:07:08Z</dcterms:modified>
  <cp:revision>5</cp:revision>
  <dc:subject/>
  <dc:title>El babuino es……</dc:title>
</cp:coreProperties>
</file>